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4958C-200D-4A14-A0E1-C513929C8FB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BB755-BD06-47D8-B486-B012E549A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85680" y="741240"/>
            <a:ext cx="4886640" cy="3665520"/>
          </a:xfrm>
          <a:prstGeom prst="rect">
            <a:avLst/>
          </a:prstGeom>
          <a:ln w="0">
            <a:noFill/>
          </a:ln>
        </p:spPr>
      </p:sp>
      <p:sp>
        <p:nvSpPr>
          <p:cNvPr id="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0B1A6-94EF-48FA-B3B6-9C9858786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93085-41F2-4B2B-B9C8-9059115C3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F6F543-3B14-4049-9857-6E2D6A8D0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B0FC9-1980-4271-8B2C-6D18E4F0E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588A0-0EAB-4DEB-97A8-16FDBB4CD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8835EF-B7F8-43EF-AF7D-A2BBFEBE0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DBA14-AFD6-4B12-9881-9F3451290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F120A-A43E-4ACA-AFF9-EC8997FDD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BEFF0-206A-4A10-994E-6ADADF346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DE1DA-1BE9-4F77-8ABD-B9A7DAC47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85680" y="741240"/>
            <a:ext cx="4886640" cy="3665520"/>
          </a:xfrm>
          <a:prstGeom prst="rect">
            <a:avLst/>
          </a:prstGeom>
          <a:ln w="0">
            <a:noFill/>
          </a:ln>
        </p:spPr>
      </p:sp>
      <p:sp>
        <p:nvSpPr>
          <p:cNvPr id="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5DDD0-DFA6-4797-94DF-81C9F0F81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F14D2-69B6-47A4-8CAB-0B16503A4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A610B-4888-4C12-B3D3-C0CEB1C37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F2764-762A-45EC-B40A-EFFB25DCB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5DEE71-D589-410A-8EC4-7BE481EF7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5EF92-BFB2-4BA9-8F0C-589978F3E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AD6D7-7F51-4B5A-9364-4CF65F9FE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985680" y="741240"/>
            <a:ext cx="4886640" cy="3665520"/>
          </a:xfrm>
          <a:prstGeom prst="rect">
            <a:avLst/>
          </a:prstGeom>
          <a:ln w="0">
            <a:noFill/>
          </a:ln>
        </p:spPr>
      </p:sp>
      <p:sp>
        <p:nvSpPr>
          <p:cNvPr id="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336FF-1350-4051-8CDC-7C3A6C36F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85680" y="741240"/>
            <a:ext cx="4886640" cy="3665520"/>
          </a:xfrm>
          <a:prstGeom prst="rect">
            <a:avLst/>
          </a:prstGeom>
          <a:ln w="0">
            <a:noFill/>
          </a:ln>
        </p:spPr>
      </p:sp>
      <p:sp>
        <p:nvSpPr>
          <p:cNvPr id="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84FD9-6F01-4D7E-B739-C7DC16D83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85680" y="741240"/>
            <a:ext cx="4886640" cy="3665520"/>
          </a:xfrm>
          <a:prstGeom prst="rect">
            <a:avLst/>
          </a:prstGeom>
          <a:ln w="0">
            <a:noFill/>
          </a:ln>
        </p:spPr>
      </p:sp>
      <p:sp>
        <p:nvSpPr>
          <p:cNvPr id="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2F45B-88CC-402C-B92C-4AE0E832C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85680" y="741240"/>
            <a:ext cx="4886640" cy="3665520"/>
          </a:xfrm>
          <a:prstGeom prst="rect">
            <a:avLst/>
          </a:prstGeom>
          <a:ln w="0">
            <a:noFill/>
          </a:ln>
        </p:spPr>
      </p:sp>
      <p:sp>
        <p:nvSpPr>
          <p:cNvPr id="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29CDD-ABB9-46C5-9BD9-EF1A37E63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985680" y="741240"/>
            <a:ext cx="4886640" cy="3665520"/>
          </a:xfrm>
          <a:prstGeom prst="rect">
            <a:avLst/>
          </a:prstGeom>
          <a:ln w="0">
            <a:noFill/>
          </a:ln>
        </p:spPr>
      </p:sp>
      <p:sp>
        <p:nvSpPr>
          <p:cNvPr id="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2FBF4-9B2B-4D3B-8C68-3AF992094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85680" y="741240"/>
            <a:ext cx="4886640" cy="3665520"/>
          </a:xfrm>
          <a:prstGeom prst="rect">
            <a:avLst/>
          </a:prstGeom>
          <a:ln w="0">
            <a:noFill/>
          </a:ln>
        </p:spPr>
      </p:sp>
      <p:sp>
        <p:nvSpPr>
          <p:cNvPr id="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FBBE5-E8F5-43E3-A0FB-999FDF762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985680" y="741240"/>
            <a:ext cx="4886640" cy="3665520"/>
          </a:xfrm>
          <a:prstGeom prst="rect">
            <a:avLst/>
          </a:prstGeom>
          <a:ln w="0">
            <a:noFill/>
          </a:ln>
        </p:spPr>
      </p:sp>
      <p:sp>
        <p:nvSpPr>
          <p:cNvPr id="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9EECE-8D3F-46E4-BF66-551515F17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036B94F-BB6C-4E93-94AE-E4C55A1C118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0D7C911-ECDF-4D65-8757-BA8FC6DA48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005CBB1B-9F69-45EB-A373-750FDB1F53E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9DE7C7F1-6922-43B6-983F-48F5BBC643B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DD64DCF-57DB-4A16-AC65-6A95948CAB1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EB05BE3-09EE-4F0E-AE5A-E69F9F4A4ED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0E86E24-08C0-4AD2-A84D-065B6BE7BC9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6CB7ABA-024D-416E-BE47-5679581ED72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EA27B881-5E31-42CC-8ADD-BA4921572F2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90B2E17F-F9E3-4DD0-8E28-D75E1B209C4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8747EE1-A8C1-42CC-8650-D09E0FB031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487C703-7D64-4A8E-ADDC-6465840FA43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DB4CCDF-A12C-40EA-A480-B0A57C754C9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BBA71AC-2FD1-478B-8526-144068E493D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DAD48A5-4ADD-44D0-8FE0-96B6ECDC123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B75F95B4-B2C5-4BA3-A1E7-B9C2A9E6F9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AD067C6-1458-4991-809C-A3E925B0FCE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9CF2882-B393-4A68-8890-9F134265210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069A64B-1EE1-4ABE-A9F1-F42B72BDCF1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5F00477-EE3E-42CB-8FE2-C69DBDC1B74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5044FF9-50A5-4939-946F-2B0D11D681E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FEEE77E7-37AF-4AB0-8B05-A961180CBF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0FA85F0-B3CF-4657-9EB7-D58DDABBD90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C71EBC6-3184-43EC-ACFB-1D4552E3570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A553463-0721-4E91-954A-60EF54DD52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EFA56EA-7423-4843-8993-31DE7DD127D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7EBA763-1054-4E1F-8424-FC870B2D08C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EBB264A-B1AA-4994-880C-276C2F0EA0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15AC0763-1285-424B-A186-96AC110A9C5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4B0AE89F-06CE-444F-9F39-D2389FC2A60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F17D837-60BD-4FE4-9CE4-47F82CE7497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7EA6EED-2290-4836-BA29-4C83C852D3F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E35FA49-FE9A-421F-B3F6-D49C42CB6C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879EE3-B616-429C-B7A1-00145AE6258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501CF22-A52C-4B84-9298-8432B452883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3984717-9BF8-4725-869D-0AF4E1D81AF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D9B1824-6A6F-4800-A2E2-5AB7FD66D67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4B84658-1C84-4C8F-84A0-E425D315A53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DEAAFA0-B85D-4AFC-ACBA-DA83872EC42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EA378ED-084F-4E70-9E95-79D6F4A593B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3D6602C-849B-40DD-9C88-604FD8C741F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81437331-2B8C-4328-B2BF-86B3D410E66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6572611-6A74-4328-8841-E0F0A2C33AD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3E87D2A-46E0-4459-A57C-22A64C431C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2A715EB-1586-4CBD-B689-2A22A51C3C2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15E1A13-5865-4881-8D9D-03A3F8E2309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5DCA92A-D7A0-47AB-BFC4-24ECA7387A6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1A1A6AF-F672-4F55-A717-5A4761F68EC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8CEEDB41-AEEE-441F-8F63-C2211C22546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FB7C3867-28D8-4BC6-856C-92E2D4C40E7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CB3332E-E0E7-4C99-8E34-3D1FC4AF305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BD373F0-F662-4DDA-9427-E5B0860D02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AD219E2-9ECC-48C7-82F7-3980FD1590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0330C54-4C75-40EF-B556-8C913BEDC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244123EF-D1D7-4EF7-B56A-12438E0655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8AAFFEA-FB0B-4A85-B3EC-A8B93F92740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E5B6418-AC36-4657-9CF5-424A9B00D3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42AA509-55F4-426F-91C2-AE28376B8F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161C615-ED3C-4A28-A446-AAAD5A02F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5CC2DDC-8774-4DF5-A9BF-A81655EDE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41B1011-8596-415D-800E-937710292A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3A07113-3FC4-482B-8304-ADD147A1A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55E43E0E-2824-4BA3-8983-79A267F4763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FB56CB1-8F2F-45DB-B8E9-992FE5CDBA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575F793-73BF-4CB8-8937-97BA3628CC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2BFDD48-0FCB-4F13-9D8F-E9B42BBB9D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5761217-5CF1-49B9-B86E-D81CAC49FE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C236817-0E35-41CB-97F0-D7E851397B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40874E0-1633-4F65-9021-1C58A4C47D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E439357-EEAF-4CA1-93B5-714FBB8D2C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FDBA8C8-AD7E-4DDC-8228-8600BB86D3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C78033C-374B-4466-95E4-E8F389D937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34E0C2F-30D5-4FE1-B6FB-4DF62F163AA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D021BE-4FBC-4132-B351-9491E3D1A9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B8CFC1-BD81-4452-845D-1866B8A306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E26494-0C9E-4741-8F98-BB9FA5947C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66184BF-A0C7-4FD2-B007-06DE851E22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1EDA65-6124-4480-A8DB-FD02A4F63B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65B8627-68B1-4354-8239-445C711132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69CF271-EA06-46B8-9768-79E0B4CC5F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10AD3C2-B43B-4C93-934D-2451DA979D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9D02C0F-FCAF-4109-B028-3B251F7124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1CDDE23-3A88-47BE-A9DD-681AB569E9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30694C6-B906-4659-80B9-F237E9288A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254D46C-F57E-44FD-A716-A07125C43B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83F9573-B3E0-4460-A475-92A52A18344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481BF3-54F8-4B74-8E7F-2D21478D31F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DE0C86A-A44B-44DB-90C4-E95A1D2C25B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E5F6647-3D67-4806-A012-85FC12AAD5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27E73A3-F971-4253-9D7D-E6143855C44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B4AEDD8-8543-417D-9070-3BC9FFB8389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2F8204AF-ABBF-4BA4-8C3D-4100F41A775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A958311-2EC9-43E1-B264-41D43509AFA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C0D402D-C9DB-4016-BD6F-F2D525630F0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5F3B0B4-896F-4DF0-B291-E85F645BE74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C38CD2B-DE87-47A5-8532-7CDEED1F326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3C94672-3F0A-4383-9CB0-834579A22E1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33F194D-5BB9-4085-8678-474FB28A9D6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FBF7DBA-893C-48D9-A7E4-54A1F192051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D2CE5E3-39AC-4B16-AECA-60A5C032B1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89F4A11-B83C-47D8-B3A1-7B3A90A177E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DE6DA64-67C1-4CCB-BA52-17C557CB7C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86910AA-0B71-40FA-869E-CE91BC5EA96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A4070B6-B574-40FE-BA4C-A51CC9D2224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C703463-CAE2-40BD-A8DF-F42897A18EB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F6E6BD95-7C8D-40D7-86E6-1EAAC4682C2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8913F09-3E61-4613-BED8-B7FB24C04B5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0125F8D-8256-4EED-A326-3333E48138A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A971990-220B-4B79-802D-F4AC7FF6655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3C3A3B8-428A-43DD-B3FE-1534C835D13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24BC7C9-A080-4A39-8939-20CBE9551E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90E51AC-D651-4D59-8B6B-DE91C8F67E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30D2C898-3D63-40F5-A745-043B4BF680E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973F69-425C-419F-AAF2-7EAE155D4ED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18968C4-AD45-4990-801F-A46A0BB82F2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68F353B-F3B8-40B4-B58C-3F5ECDDDFBB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1105812-F540-4C59-8B92-1F5652F6317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98CAAC30-83DC-40FD-9565-9C251B63ABA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95375FF-F4E4-4B6E-A180-993EEAC9185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82F2043-13D5-46BA-BF24-B0936881427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FC05189-4E78-4A3D-9052-157046CD9D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2FAC773-95E2-48AD-9FCF-0AE4D52FB1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922BD3E-E5B8-4803-A5DE-ADEF1CD21CE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7E4F0F1-C3C8-40C1-AF78-06AF3EDA0E5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4D37362-84BE-4D17-8E6F-9DC4F041009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C584759B-ED5E-4003-818C-94325033DB9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0DB5E8A-D847-47F2-B9F7-6999477D3C0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89C5191-7CDB-41EF-99A2-B76CF05F19A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92A52FE-8D7F-46CA-BC33-8DBE2AB77CC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68E820B-39CC-46B2-8A21-3069F3E88FA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2E1931A1-597D-4DD7-A725-3C6D015D3AA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C95A477-EA71-40B0-AFE9-85FC7DE54B8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3ED5E09-E5E0-452F-ABA6-FB7DAF4202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9742B7A-BE0A-46D0-BACC-99BC259FBA0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478D477-B660-4353-AC54-5875D97D55E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0C6268F-96D9-487A-AEDF-96A6852BEAE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DE4B441-551A-4774-86E7-22FE6FDBB43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5F46421-28E2-425B-B4F0-CD1FE79E23B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909A334-3193-48B3-9C25-DA3C6E8D705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1420791-0602-43B2-B82D-7B20AF09A97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D246161-46C0-41C4-800D-28069AB8A5F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6EC1750-5012-4018-83E8-FDE5287C300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2E29B9A-0E4E-4157-8816-7286CF1E6F6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062F1381-6CFF-44A5-9188-B36C8BB2E7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AE86E04-27AD-456C-91D3-3EEEAF1F31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331C87A1-41F7-418A-8238-B0897745C39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FE31D79-2659-4E38-B55D-EB4ADD1ED90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4DFC59F-4F62-485B-9193-ACFD3121037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BB60515-F0B4-4168-AED0-118B8E031E3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192D906-1387-43A9-9B67-383FD158577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702F2A1-E760-4B63-8AA0-CF3DDC1527C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9FC473D8-DC43-4E27-A32B-65B831C70E8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9BF134D-6712-4145-9194-3980CD7B946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128C68B-1151-40B5-A449-8BD81CD38F9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1176A9E-D435-4D39-A248-8B9AAD5E7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EFB89-9751-4B7D-BEC0-22E8F722E5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5E87A9-A039-480C-B29A-A32A60790D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00019-A1AB-4570-B551-6576D51B183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181EC3-6ADC-4486-A000-98A47D95D3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F0A03-B225-42DC-8377-40616EC3680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654D3-03C1-4ECB-A377-FC211EC10F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8BE3C-18A7-47E0-BEC6-2E73E8C27C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0B967-55A6-4CC7-9BC1-06BD30EF80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CA6224-A725-4264-8AD7-4E026A7A8D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A889FA-F7BB-4FC2-812B-7B70B79E83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A561F-A971-4355-8788-0B7BD48AEC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9363C-0D84-4CC5-AC8F-E42C95D0064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2F2B0-859C-4D03-A2C8-4E30207847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611280" y="1407960"/>
            <a:ext cx="8208720" cy="4402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611280" y="1193760"/>
            <a:ext cx="8208720" cy="4830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611280" y="1469880"/>
            <a:ext cx="8208720" cy="4278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611280" y="1839960"/>
            <a:ext cx="8208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611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66" name="" descr=""/>
          <p:cNvPicPr/>
          <p:nvPr/>
        </p:nvPicPr>
        <p:blipFill>
          <a:blip r:embed="rId1"/>
          <a:stretch/>
        </p:blipFill>
        <p:spPr>
          <a:xfrm>
            <a:off x="0" y="0"/>
            <a:ext cx="9144000" cy="1368360"/>
          </a:xfrm>
          <a:prstGeom prst="rect">
            <a:avLst/>
          </a:prstGeom>
          <a:ln w="0">
            <a:noFill/>
          </a:ln>
        </p:spPr>
      </p:pic>
      <p:pic>
        <p:nvPicPr>
          <p:cNvPr id="767" name="" descr=""/>
          <p:cNvPicPr/>
          <p:nvPr/>
        </p:nvPicPr>
        <p:blipFill>
          <a:blip r:embed="rId2"/>
          <a:stretch/>
        </p:blipFill>
        <p:spPr>
          <a:xfrm>
            <a:off x="1258920" y="2060640"/>
            <a:ext cx="1297080" cy="1528560"/>
          </a:xfrm>
          <a:prstGeom prst="rect">
            <a:avLst/>
          </a:prstGeom>
          <a:ln w="0">
            <a:noFill/>
          </a:ln>
        </p:spPr>
      </p:pic>
      <p:pic>
        <p:nvPicPr>
          <p:cNvPr id="768" name="" descr=""/>
          <p:cNvPicPr/>
          <p:nvPr/>
        </p:nvPicPr>
        <p:blipFill>
          <a:blip r:embed="rId3"/>
          <a:stretch/>
        </p:blipFill>
        <p:spPr>
          <a:xfrm>
            <a:off x="6948360" y="1989000"/>
            <a:ext cx="1444680" cy="1573200"/>
          </a:xfrm>
          <a:prstGeom prst="rect">
            <a:avLst/>
          </a:prstGeom>
          <a:ln w="0">
            <a:noFill/>
          </a:ln>
        </p:spPr>
      </p:pic>
      <p:sp>
        <p:nvSpPr>
          <p:cNvPr id="769"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7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539640" y="1413000"/>
            <a:ext cx="8280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413000"/>
            <a:ext cx="8280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 name=""/>
          <p:cNvGrpSpPr/>
          <p:nvPr/>
        </p:nvGrpSpPr>
        <p:grpSpPr>
          <a:xfrm>
            <a:off x="0" y="115920"/>
            <a:ext cx="9140760" cy="6548400"/>
            <a:chOff x="0" y="115920"/>
            <a:chExt cx="9140760" cy="6548400"/>
          </a:xfrm>
        </p:grpSpPr>
        <p:grpSp>
          <p:nvGrpSpPr>
            <p:cNvPr id="577" name=""/>
            <p:cNvGrpSpPr/>
            <p:nvPr/>
          </p:nvGrpSpPr>
          <p:grpSpPr>
            <a:xfrm>
              <a:off x="0" y="115920"/>
              <a:ext cx="9140760" cy="6548400"/>
              <a:chOff x="0" y="115920"/>
              <a:chExt cx="9140760" cy="6548400"/>
            </a:xfrm>
          </p:grpSpPr>
          <p:sp>
            <p:nvSpPr>
              <p:cNvPr id="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
        <p:nvSpPr>
          <p:cNvPr id="584" name=""/>
          <p:cNvSpPr/>
          <p:nvPr/>
        </p:nvSpPr>
        <p:spPr>
          <a:xfrm>
            <a:off x="324000" y="2270160"/>
            <a:ext cx="849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324000" y="2270160"/>
            <a:ext cx="849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395280" y="977760"/>
            <a:ext cx="8497800" cy="5262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250920" y="1407960"/>
            <a:ext cx="8569080" cy="4402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611280" y="2054160"/>
            <a:ext cx="820872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21Z</dcterms:modified>
  <cp:revision>157</cp:revision>
  <dc:subject/>
  <dc:title>Παρουσίαση του PowerPoint</dc:title>
</cp:coreProperties>
</file>